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2FE-4DD4-4DEB-9CAC-6890A8B7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33C-4350-4DD4-818B-47047FD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6C5-26B6-4CA3-BAF7-F1B67E91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3D7-8A05-4D21-AC1A-EFA30539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14E2-8A22-4C49-8B5D-898E28A7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8EB6-C832-450F-AB04-5B5FF79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743-6410-4B90-A76E-A7F5C6D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9BE7-983C-40CC-B00C-239713D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87F3-B7B2-4EC5-9E93-357900E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712-63A1-4889-92C4-DA15F22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6B54-A2BB-4B21-90AF-AE5E3F5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A0C-FC5D-4F14-BAC7-5397FFB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D46-DEC4-4BF7-A453-6466C63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C04B-687A-4DC9-B092-6D1EBF5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373D-3F26-4E46-804C-2E56E0D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D293-A925-4AE7-B64A-714E03FB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F28-A6F1-485C-8E49-F047A95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A0A-0DBF-47D8-86C7-53D477CF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543-21C0-4630-AB39-8FCF064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8C2-F2CF-40BE-9117-9FD3DE1B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8AC-C30A-43D3-9F59-8B3BDE7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5F7-4E43-48FB-8C63-87A7FAA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074-B795-4982-8DD4-2F88459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F59-3ECD-4E19-82E5-5869DB1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189A-402A-4C64-8929-3AA44E0E322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8D80-1EDC-435A-BFF6-1AC96703D08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JETO: SIMULA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DO ANDRADE AQU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RLENE S. B. DAS VIRG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CYARA HALIK S. VIC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simulado foi realizado nos três períodos: matutino, vespertino e notu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i aplicado para o Ensino fundamental, Ensino médio e E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 prova aplicada para o Ensino Fundamental e para o EJA havia 40 questões de múltipla escolha de todas as matéri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 prova do Ensino Médio havia 65 questões também de múltipla escolh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o Ensino Fundamental 3 alunas empataram com 31 questões acertad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ndressa da Silva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6º ano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reza Aline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6º ano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laíde da Silva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9º ano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2708280"/>
            <a:ext cx="80010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m aluno obteve 28 acertos, 5 alunos obtiveram 27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Ensino Médio 1 aluna acertou 49 questões das 65 questõ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íra – 2º ano E.M.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7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6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5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3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alunos(as) obtiveram 42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1054080"/>
            <a:ext cx="8037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EJA (3ª e 4ª fases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36 acertos: Maria Barr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o com 30 acertos: José Carl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28 acertos: Neuza Reis – 3ª f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27 acertos: Sueli Barr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alunos(as) com 24 acertos e 3 alunos(as) com 23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correções e tabulações foram realizadas no dia 07/07/09 e, aconteceu nos três períodos na Sala de Tecnologias Educacionais e, teve a participação de professores, coordenadoras e professores multiplicadores da s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Verdana"/>
              </a:rPr>
              <a:t>O PROJETO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Verdana"/>
              </a:rPr>
              <a:t>PÚBLICO AL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322000"/>
            <a:ext cx="8001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Professores e alunos da Escola Estadual Joaquim Gonçalves Ledo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imular o estudo e acrescentar conhecimento aos estudantes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miliarizar o estudante quanto ao método (simulado), bem como com o preenchimento do gabarit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s professores do Ensino Fundamental de 6º ao 9º ano e do Ensino Médio da Escola Estadual Joaquim Gonçalves Ledo devem elaborar e digitar no Word, cinco questões de múltipla escolha da disciplina em que leciona para cada an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s professores multiplicadores da STE tiveram como função ensinar os docentes as normas de formatação para suas respectivas questõ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simulado foi aplicado pelos professores regentes e corrigidos pelos mesmos com o auxílio dos professores multiplicadores da STE nos três perío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693360"/>
            <a:ext cx="8001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formação dos docentes aconteceu em etap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primeira etapa foi a formação quanto às normas de formatação do simulado, para que todas as questões tivessem uma mesma formataçã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pois os professores foram orientados quanto à formulação do gabari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 por último foram orientados quanto a correção e tabulação dos resultados usando como recurso o microsoft exce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20818800">
            <a:off x="2050920" y="2565000"/>
            <a:ext cx="5141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A DO SIMULA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 rot="20871600">
            <a:off x="611280" y="2773080"/>
            <a:ext cx="795636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UNOS FAZENDO A PROVA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81160" y="3108240"/>
            <a:ext cx="71359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ECUÇÃO DO SIMULADO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4:07:27Z</dcterms:created>
  <dc:creator>SEDMS</dc:creator>
  <dc:description/>
  <dc:language>en-US</dc:language>
  <cp:lastModifiedBy>SEDMS</cp:lastModifiedBy>
  <dcterms:modified xsi:type="dcterms:W3CDTF">2009-08-10T14:27:23Z</dcterms:modified>
  <cp:revision>7</cp:revision>
  <dc:subject/>
  <dc:title>PROJETO: SIMULADO</dc:title>
</cp:coreProperties>
</file>